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D69C-19A9-4E39-88F2-738F6232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B1F-4A5D-491E-8956-9C740E9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00C-C801-475E-B844-061B08C33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A59-86B7-4023-8A77-8F453887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F1CD-AFEA-4195-951D-FF2A0F11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DA55-FFBD-482F-9F62-125E14E6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5D1A-B7EB-48BA-8D2A-4FA9CED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784-8B83-4460-B984-852EBEF8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246-7AD7-445B-B015-230C2A43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100-0BFC-4EF5-9CDA-1173D3B9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4D4-B406-4F66-B549-22ED29C0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A02-68EF-4C59-B424-543D92F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A061-869E-4EC2-BAB2-15EA50ADADD1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Project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W. Klebsch / L. B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isation and protection of the SW MUST be managed and controlled through out the whole development cycle 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cremental integration sequence (layer dependencie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CRUM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 approach (i.e. target for next release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IDB in BEJ with Aries SVN 2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Workflow TBD in workshop (wk 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Organiz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40" y="1676520"/>
            <a:ext cx="4376880" cy="419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333520" cy="48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000" y="95868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s agreed with Voda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1120" y="9586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Aries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 – current stackup (SGlit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59072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3818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7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10T09:41:40Z</dcterms:modified>
  <cp:revision>119</cp:revision>
  <dc:subject/>
  <dc:title>PowerPoint</dc:title>
</cp:coreProperties>
</file>